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6C42-7DEE-411F-B4EA-95095FC9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561-697C-465C-A305-C2E95561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9A5-CA48-4CE2-962C-822F5B06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D74-3AC9-4F67-9A0D-E3713BD9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97A-7D32-4BA5-98EC-B24EEE63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E6CD-338A-40E3-9661-64AE6A2D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7A3-4738-4B06-9872-4841D7C3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5368-3A07-4A50-A892-DF70165A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E446-F755-4EFD-A6E0-136E4626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30D9-FFCC-480F-AB68-CB80D36C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782-7E72-4D1D-A6E3-6CE30F04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F8D2-C809-47D6-A909-B91617EA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3236-F8D0-4ED3-A454-AB1B25918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228600"/>
            <a:ext cx="6324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aina D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1905120"/>
            <a:ext cx="3353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.K.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4572000"/>
            <a:ext cx="4419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ina D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95280" y="1066680"/>
            <a:ext cx="5943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e and a Homegirl,SAM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295280" y="380880"/>
            <a:ext cx="5715000" cy="17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Bye..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752480" y="228600"/>
            <a:ext cx="5562720" cy="167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m Good AT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14400" y="3276720"/>
            <a:ext cx="7086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.Braiding Hai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.Cook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.Sing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0"/>
            <a:ext cx="73911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My Favorite Website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66680" y="2590920"/>
            <a:ext cx="67057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.Myspace.co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.Yahoo.co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.Youtube.co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295280" y="304920"/>
            <a:ext cx="6629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y Favorite Foods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2209680"/>
            <a:ext cx="5257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ried Chicken Strip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rkChop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ried Shrimps..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981080" y="152280"/>
            <a:ext cx="541044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 Ten Years, I.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8381880" y="2819520"/>
            <a:ext cx="321948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uld be out of schoo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iving independently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rking at the Hospit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rking as a registered nurse and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st but not least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lping my family.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3200400"/>
            <a:ext cx="8315280" cy="24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uld be out of school living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dependently,working as a registered nurse at the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spital and helping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y family out...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0"/>
            <a:ext cx="4800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y Favorite Artists/Rapper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33720" y="2590920"/>
            <a:ext cx="510516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ary J.Blid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Keyshia C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Z-R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5105520"/>
            <a:ext cx="7867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I feel tha keep it so REAL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880" y="838080"/>
            <a:ext cx="4143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ne of my friends as a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OY.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43200" y="4343400"/>
            <a:ext cx="396252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arin Husban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152280"/>
            <a:ext cx="71625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y Favorite Teachers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2362320"/>
            <a:ext cx="38862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rs.Le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rs.Webbe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s.Guillor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52480" y="380880"/>
            <a:ext cx="53341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f I Could,I Would.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2666880"/>
            <a:ext cx="86104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elp The Homeles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ive My Family Everything They Wan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ake Back All Da Talking Bac I Gave My Parent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6:09:08Z</dcterms:created>
  <dc:creator>765892</dc:creator>
  <dc:description/>
  <dc:language>en-US</dc:language>
  <cp:lastModifiedBy>765892</cp:lastModifiedBy>
  <dcterms:modified xsi:type="dcterms:W3CDTF">2008-10-31T15:23:47Z</dcterms:modified>
  <cp:revision>16</cp:revision>
  <dc:subject/>
  <dc:title>Slide 1</dc:title>
</cp:coreProperties>
</file>